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D6F-7532-461D-A41C-FA86A4C3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364C-2A79-40F2-B163-3BBC23D5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CBA-C5A9-47AA-97F4-DC4AB898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01F-D3C1-4F20-B24C-43B6F51B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3856-B569-425A-8BA4-1B4CA460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299B-A67E-4860-B2E9-12475E7B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3437-6537-44AD-B82C-599BCA11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65BC-5ADF-452B-A6C3-483653A2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32F6-107B-4EB4-AEE9-DE97085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A8D3-975E-4383-9600-EF3858DD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D465-E83A-4102-9F63-DD026F6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A80-39F8-4A10-BDB7-F39FB55A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0A77-6B5C-4B3E-8052-131F19EF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6822-602A-4E38-BB1C-31FDEB08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5A49-48BE-4218-A779-1BC85D87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87AB-2143-47FD-A7F6-746ACDD7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367C-946B-4688-8835-C575B23C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5627-EBE4-4C5A-A69A-F068146F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C9C1-EE25-4C60-935A-37980088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3B49-B5AD-4481-8BA3-928DA717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5849-55FD-4E4A-8B65-86EADA6D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AB69-D5DD-4FAC-876F-7E76CBED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C40-B2A1-490A-9C11-BFE0DA14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38C5-02D9-4D24-A8B2-58237704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BFB3A-B391-46BA-BCEC-8EC3D1F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1C866-1CD5-4962-ADBB-F551C3C3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0B5D-CA97-489F-B36F-159E95A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F856-FF82-425F-B137-25732456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4D18-B3F4-440E-97F7-99DD743A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9EF8-D2DB-4C8E-B7B2-5075E3F5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9B03D-7A84-4B9D-ABF7-CF0049DF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2EFE2-3812-4D60-992C-D2A2D1A7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3689-48F9-448C-9071-7ECCA1BA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CD1-B85C-4DAC-A16F-DC417CE7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91555-59B6-4D26-A60D-3EEF21B6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1445-A1D3-43BD-A2AE-FCEB2EA8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FCF0-A9F3-482A-8D45-891B5DB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21DA-28A0-46C8-942A-ABFCFE7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7903-7870-4E9E-98EB-425A152B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F7ECB-4766-4B24-839F-468BDD33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DF15-357B-4E79-B06F-8A4116D0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54F9-84E2-4BE6-AEB2-3826B99D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DC56E-296B-4417-AA6F-4DFBE791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E9C-971B-46B3-87F3-4201A042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995-7EDF-4F0C-85EF-F8FE46B1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0D2-6009-425E-A5A6-684AFB6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D4C-D45A-40E1-9A15-EEBA684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5A8-CD87-4F74-86A5-CC61844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2DFB-9632-4FE8-BB90-4FDB7F7F4136}" type="slidenum">
              <a:rPr b="0" i="1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461B-F23F-49B2-8A87-CA3C89E762B7}" type="slidenum">
              <a:rPr b="0" i="1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91CE-E37E-4C20-BF42-4E9F4F647E98}" type="slidenum">
              <a:rPr b="0" i="1" lang="ru-RU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A96E-ED0C-4669-AC25-02D01314AA7F}" type="slidenum">
              <a:rPr b="0" i="1" lang="ru-RU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28608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Monotype Corsiva"/>
              </a:rPr>
              <a:t>Тэма ўрока: 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раблема народных талентаў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у паэме М.Танка «Люцыян Таполя»…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"/>
          <p:cNvPicPr/>
          <p:nvPr/>
        </p:nvPicPr>
        <p:blipFill>
          <a:blip r:embed="rId1"/>
          <a:stretch/>
        </p:blipFill>
        <p:spPr>
          <a:xfrm>
            <a:off x="2057400" y="-152280"/>
            <a:ext cx="5181480" cy="7162560"/>
          </a:xfrm>
          <a:prstGeom prst="rect">
            <a:avLst/>
          </a:prstGeom>
          <a:ln w="0">
            <a:noFill/>
          </a:ln>
        </p:spPr>
      </p:pic>
      <p:pic>
        <p:nvPicPr>
          <p:cNvPr id="238" name="05 Дорожка 5.wma" descr=""/>
          <p:cNvPicPr/>
          <p:nvPr/>
        </p:nvPicPr>
        <p:blipFill>
          <a:blip r:embed="rId2"/>
          <a:stretch/>
        </p:blipFill>
        <p:spPr>
          <a:xfrm>
            <a:off x="500040" y="5429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8903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40338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5" descr="2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6404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411948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3" descr="3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527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3"/>
          <p:cNvPicPr/>
          <p:nvPr/>
        </p:nvPicPr>
        <p:blipFill>
          <a:blip r:embed="rId1"/>
          <a:stretch/>
        </p:blipFill>
        <p:spPr>
          <a:xfrm>
            <a:off x="0" y="-1905120"/>
            <a:ext cx="12039480" cy="919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7105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4"/>
          <p:cNvPicPr/>
          <p:nvPr/>
        </p:nvPicPr>
        <p:blipFill>
          <a:blip r:embed="rId1"/>
          <a:stretch/>
        </p:blipFill>
        <p:spPr>
          <a:xfrm>
            <a:off x="-1905120" y="-1363680"/>
            <a:ext cx="13411440" cy="10420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galczynski_ki"/>
          <p:cNvPicPr/>
          <p:nvPr/>
        </p:nvPicPr>
        <p:blipFill>
          <a:blip r:embed="rId1"/>
          <a:stretch/>
        </p:blipFill>
        <p:spPr>
          <a:xfrm>
            <a:off x="1643040" y="0"/>
            <a:ext cx="5415120" cy="6858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9" name="TextBox 3"/>
          <p:cNvSpPr/>
          <p:nvPr/>
        </p:nvSpPr>
        <p:spPr>
          <a:xfrm>
            <a:off x="5081040" y="645804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000" spc="-1" strike="noStrike">
                <a:solidFill>
                  <a:srgbClr val="cbeac0"/>
                </a:solidFill>
                <a:latin typeface="Tahoma"/>
              </a:rPr>
              <a:t>К.І. Галчынскі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96840" y="1779480"/>
            <a:ext cx="9107640" cy="4060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alibri"/>
              </a:rPr>
              <a:t>Схема параметраў тыпалагічнага падабенства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Тэ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Ідэ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Вобра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“</a:t>
            </a: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Люцыян Таполя”              Праблематыка           “Віт Ствош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Мастацкія сродк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Кампазіцы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ffff00"/>
                </a:solidFill>
                <a:latin typeface="Constantia"/>
              </a:rPr>
              <a:t>Лексічныя сродкі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Line 3"/>
          <p:cNvSpPr/>
          <p:nvPr/>
        </p:nvSpPr>
        <p:spPr>
          <a:xfrm flipV="1">
            <a:off x="2819520" y="914400"/>
            <a:ext cx="12952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4"/>
          <p:cNvSpPr/>
          <p:nvPr/>
        </p:nvSpPr>
        <p:spPr>
          <a:xfrm flipV="1">
            <a:off x="2895480" y="15235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"/>
          <p:cNvSpPr/>
          <p:nvPr/>
        </p:nvSpPr>
        <p:spPr>
          <a:xfrm flipV="1">
            <a:off x="2895480" y="22096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289548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2819520" y="2819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2819520" y="297180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2743200" y="3048120"/>
            <a:ext cx="685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0"/>
          <p:cNvSpPr/>
          <p:nvPr/>
        </p:nvSpPr>
        <p:spPr>
          <a:xfrm flipH="1" flipV="1">
            <a:off x="4952880" y="159984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1"/>
          <p:cNvSpPr/>
          <p:nvPr/>
        </p:nvSpPr>
        <p:spPr>
          <a:xfrm flipH="1" flipV="1">
            <a:off x="5105520" y="22096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2"/>
          <p:cNvSpPr/>
          <p:nvPr/>
        </p:nvSpPr>
        <p:spPr>
          <a:xfrm flipH="1">
            <a:off x="533376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3"/>
          <p:cNvSpPr/>
          <p:nvPr/>
        </p:nvSpPr>
        <p:spPr>
          <a:xfrm flipH="1">
            <a:off x="5562720" y="2971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14"/>
          <p:cNvSpPr/>
          <p:nvPr/>
        </p:nvSpPr>
        <p:spPr>
          <a:xfrm flipH="1">
            <a:off x="5409720" y="304812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15"/>
          <p:cNvSpPr/>
          <p:nvPr/>
        </p:nvSpPr>
        <p:spPr>
          <a:xfrm flipH="1">
            <a:off x="5562360" y="312408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16"/>
          <p:cNvSpPr/>
          <p:nvPr/>
        </p:nvSpPr>
        <p:spPr>
          <a:xfrm flipH="1" flipV="1">
            <a:off x="4876560" y="9144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AutoShape 18">
            <a:hlinkClick r:id="rId1" action="ppaction://hlinksldjump"/>
          </p:cNvPr>
          <p:cNvSpPr/>
          <p:nvPr/>
        </p:nvSpPr>
        <p:spPr>
          <a:xfrm>
            <a:off x="7467480" y="525780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4625" y="10800"/>
                </a:moveTo>
                <a:lnTo>
                  <a:pt x="18638" y="3794"/>
                </a:lnTo>
                <a:lnTo>
                  <a:pt x="18638" y="17806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С</a:t>
            </a:r>
            <a:r>
              <a:rPr b="0" lang="en-US" sz="5000" spc="-1" strike="noStrike">
                <a:solidFill>
                  <a:srgbClr val="ffff00"/>
                </a:solidFill>
                <a:latin typeface="Calibri"/>
              </a:rPr>
              <a:t>i</a:t>
            </a:r>
            <a:r>
              <a:rPr b="0" lang="ru-RU" sz="5000" spc="-1" strike="noStrike">
                <a:solidFill>
                  <a:srgbClr val="ffff00"/>
                </a:solidFill>
                <a:latin typeface="Calibri"/>
              </a:rPr>
              <a:t>нквей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2428920"/>
            <a:ext cx="82296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Тален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Два прыметн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кі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Тры дзеяслов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Адз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н сказ з чатырох слоў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С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нон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м да слова тален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30" descr="максим танк"/>
          <p:cNvPicPr/>
          <p:nvPr/>
        </p:nvPicPr>
        <p:blipFill>
          <a:blip r:embed="rId1"/>
          <a:stretch/>
        </p:blipFill>
        <p:spPr>
          <a:xfrm>
            <a:off x="2033640" y="0"/>
            <a:ext cx="4895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8321400" cy="8715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539640" y="1427040"/>
            <a:ext cx="835344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Нап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саць сачыненне-разважанне на адно з выказванняў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Я ж кажу вам: добра быць талентам, але шчасл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вы той, каму дадзена быць вас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льком, бо навошта каласы,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кал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 няма вас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лькоў.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М.Багданов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ч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«Апокрыф»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2. Чалавек моцны тады, кал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 ў 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м вял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кая с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ла духу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А.Разанаў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«С</a:t>
            </a:r>
            <a:r>
              <a:rPr b="0" lang="en-US" sz="2800" spc="-1" strike="noStrike">
                <a:solidFill>
                  <a:srgbClr val="ffc000"/>
                </a:solidFill>
                <a:latin typeface="Monotype Corsiva"/>
              </a:rPr>
              <a:t>i</a:t>
            </a:r>
            <a:r>
              <a:rPr b="0" lang="ru-RU" sz="2800" spc="-1" strike="noStrike">
                <a:solidFill>
                  <a:srgbClr val="ffc000"/>
                </a:solidFill>
                <a:latin typeface="Monotype Corsiva"/>
              </a:rPr>
              <a:t>ла»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2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682560" y="1352520"/>
            <a:ext cx="8942400" cy="4371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468360" y="112536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Ц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 ведаеце вы, што такое талент?</a:t>
            </a:r>
            <a:endParaRPr b="0" i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 як, на вашу думку, ная</a:t>
            </a:r>
            <a:r>
              <a:rPr b="1" lang="be-BY" sz="5400" spc="-1" strike="noStrike">
                <a:solidFill>
                  <a:srgbClr val="ffff00"/>
                </a:solidFill>
                <a:latin typeface="Times New Roman"/>
              </a:rPr>
              <a:t>ў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насць таленту можа паўплываць </a:t>
            </a:r>
            <a:endParaRPr b="0" i="1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на лёс чалавека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95280" y="1654200"/>
            <a:ext cx="849780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Талент – гэта надзвычайныя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рыродныя здольнасц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«Тлумачальны слоўн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беларускай л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таратурнай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овы»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7200" y="512640"/>
            <a:ext cx="8010360" cy="27799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828440" y="3071880"/>
            <a:ext cx="71722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161604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Бедны хлопчык быў загнаны,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У бацькоў нялюбы сын,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Бо в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дочныя заганы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 меў тольк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 ён адз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н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Не так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, як усе дзец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Нёс в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ну за ўсё на свеце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В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наваты без в</a:t>
            </a:r>
            <a:r>
              <a:rPr b="1" i="1" lang="en-US" sz="2500" spc="-1" strike="noStrike" u="sng">
                <a:solidFill>
                  <a:srgbClr val="ff00ff"/>
                </a:solidFill>
                <a:uFillTx/>
                <a:latin typeface="Calibri"/>
              </a:rPr>
              <a:t>i</a:t>
            </a:r>
            <a:r>
              <a:rPr b="1" i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ны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161604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ff00ff"/>
                </a:solidFill>
                <a:uFillTx/>
                <a:latin typeface="Calibri"/>
              </a:rPr>
              <a:t>(Паэма Я.Коласа «Сымон-музыка»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2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ffff00"/>
                </a:solidFill>
                <a:uFillTx/>
                <a:latin typeface="Calibri"/>
              </a:rPr>
              <a:t>Рамонак Блу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Diagram 5"/>
          <p:cNvGrpSpPr/>
          <p:nvPr/>
        </p:nvGrpSpPr>
        <p:grpSpPr>
          <a:xfrm>
            <a:off x="216360" y="21600"/>
            <a:ext cx="8636400" cy="7563600"/>
            <a:chOff x="216360" y="21600"/>
            <a:chExt cx="8636400" cy="7563600"/>
          </a:xfrm>
        </p:grpSpPr>
        <p:sp>
          <p:nvSpPr>
            <p:cNvPr id="212" name="_s1028"/>
            <p:cNvSpPr/>
            <p:nvPr/>
          </p:nvSpPr>
          <p:spPr>
            <a:xfrm>
              <a:off x="837000" y="1571760"/>
              <a:ext cx="7395120" cy="4463640"/>
            </a:xfrm>
            <a:prstGeom prst="pi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_s1029"/>
            <p:cNvSpPr/>
            <p:nvPr/>
          </p:nvSpPr>
          <p:spPr>
            <a:xfrm rot="3600000">
              <a:off x="2302560" y="105840"/>
              <a:ext cx="4463640" cy="7395120"/>
            </a:xfrm>
            <a:prstGeom prst="pi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_s1030"/>
            <p:cNvSpPr/>
            <p:nvPr/>
          </p:nvSpPr>
          <p:spPr>
            <a:xfrm rot="7200000">
              <a:off x="2302200" y="105840"/>
              <a:ext cx="4463640" cy="7395120"/>
            </a:xfrm>
            <a:prstGeom prst="pi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_s1031"/>
            <p:cNvSpPr/>
            <p:nvPr/>
          </p:nvSpPr>
          <p:spPr>
            <a:xfrm rot="10800000">
              <a:off x="837000" y="1571040"/>
              <a:ext cx="7395120" cy="4463640"/>
            </a:xfrm>
            <a:prstGeom prst="pi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1032"/>
            <p:cNvSpPr/>
            <p:nvPr/>
          </p:nvSpPr>
          <p:spPr>
            <a:xfrm rot="14400000">
              <a:off x="2302560" y="105480"/>
              <a:ext cx="4463640" cy="7395120"/>
            </a:xfrm>
            <a:prstGeom prst="pi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_s1033"/>
            <p:cNvSpPr/>
            <p:nvPr/>
          </p:nvSpPr>
          <p:spPr>
            <a:xfrm rot="18000000">
              <a:off x="2302920" y="105480"/>
              <a:ext cx="4463640" cy="7395120"/>
            </a:xfrm>
            <a:prstGeom prst="pi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_s1034"/>
            <p:cNvSpPr/>
            <p:nvPr/>
          </p:nvSpPr>
          <p:spPr>
            <a:xfrm>
              <a:off x="5512680" y="1597680"/>
              <a:ext cx="1432080" cy="8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ffff00"/>
                </a:buClr>
                <a:buFont typeface="Tahom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Проста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      </a:t>
              </a: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пытанн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_s1035"/>
            <p:cNvSpPr/>
            <p:nvPr/>
          </p:nvSpPr>
          <p:spPr>
            <a:xfrm>
              <a:off x="431640" y="3372120"/>
              <a:ext cx="1432080" cy="8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ffff00"/>
                  </a:solidFill>
                  <a:latin typeface="Tahoma"/>
                </a:rPr>
                <a:t>5. Ацэначна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ffff00"/>
                  </a:solidFill>
                  <a:latin typeface="Tahoma"/>
                </a:rPr>
                <a:t>пытанн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_s1036"/>
            <p:cNvSpPr/>
            <p:nvPr/>
          </p:nvSpPr>
          <p:spPr>
            <a:xfrm>
              <a:off x="2123280" y="1599480"/>
              <a:ext cx="1432080" cy="8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ffff00"/>
                  </a:solidFill>
                  <a:latin typeface="Tahoma"/>
                </a:rPr>
                <a:t>6. Праблемна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1800" spc="-1" strike="noStrike">
                  <a:solidFill>
                    <a:srgbClr val="ffff00"/>
                  </a:solidFill>
                  <a:latin typeface="Tahoma"/>
                </a:rPr>
                <a:t>пытанн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_s1037"/>
            <p:cNvSpPr/>
            <p:nvPr/>
          </p:nvSpPr>
          <p:spPr>
            <a:xfrm>
              <a:off x="7207920" y="3370320"/>
              <a:ext cx="1432080" cy="8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2. Удакладняюча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пытанн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_s1038"/>
            <p:cNvSpPr/>
            <p:nvPr/>
          </p:nvSpPr>
          <p:spPr>
            <a:xfrm>
              <a:off x="5512680" y="5142600"/>
              <a:ext cx="1432080" cy="8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3. </a:t>
              </a: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Тлумачальна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пытанне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_s1039"/>
            <p:cNvSpPr/>
            <p:nvPr/>
          </p:nvSpPr>
          <p:spPr>
            <a:xfrm>
              <a:off x="2126520" y="5142600"/>
              <a:ext cx="1432080" cy="8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4. Творчае 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Tahoma"/>
                </a:rPr>
                <a:t>пытанне 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23640" y="976320"/>
            <a:ext cx="8569080" cy="523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Розныя х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еры лезуць па зван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цы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 па вежы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 паўзуць угору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Па душу, па думку чалавек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Тольк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 не спын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ць палёту дум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Што , як сонца, слеп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ць вочы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 век розуму не пагас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ць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м  -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Чорным с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i</a:t>
            </a:r>
            <a:r>
              <a:rPr b="1" lang="ru-RU" sz="2800" spc="-1" strike="noStrike">
                <a:solidFill>
                  <a:srgbClr val="ffff00"/>
                </a:solidFill>
                <a:latin typeface="Constantia"/>
              </a:rPr>
              <a:t>лам пекл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Diagram 5"/>
          <p:cNvGrpSpPr/>
          <p:nvPr/>
        </p:nvGrpSpPr>
        <p:grpSpPr>
          <a:xfrm>
            <a:off x="228600" y="333360"/>
            <a:ext cx="8568720" cy="6523920"/>
            <a:chOff x="228600" y="333360"/>
            <a:chExt cx="8568720" cy="6523920"/>
          </a:xfrm>
        </p:grpSpPr>
        <p:sp>
          <p:nvSpPr>
            <p:cNvPr id="226" name="_s2052"/>
            <p:cNvSpPr/>
            <p:nvPr/>
          </p:nvSpPr>
          <p:spPr>
            <a:xfrm flipH="1">
              <a:off x="2445120" y="4848120"/>
              <a:ext cx="103824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_s2053"/>
            <p:cNvSpPr/>
            <p:nvPr/>
          </p:nvSpPr>
          <p:spPr>
            <a:xfrm>
              <a:off x="228600" y="4851360"/>
              <a:ext cx="2380680" cy="20059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_s2054"/>
            <p:cNvSpPr/>
            <p:nvPr/>
          </p:nvSpPr>
          <p:spPr>
            <a:xfrm>
              <a:off x="5538960" y="4848120"/>
              <a:ext cx="103824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5"/>
            <p:cNvSpPr/>
            <p:nvPr/>
          </p:nvSpPr>
          <p:spPr>
            <a:xfrm>
              <a:off x="6417360" y="4851360"/>
              <a:ext cx="2379960" cy="20059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_s2056"/>
            <p:cNvSpPr/>
            <p:nvPr/>
          </p:nvSpPr>
          <p:spPr>
            <a:xfrm flipV="1">
              <a:off x="4511160" y="2336040"/>
              <a:ext cx="0" cy="101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_s2057"/>
            <p:cNvSpPr/>
            <p:nvPr/>
          </p:nvSpPr>
          <p:spPr>
            <a:xfrm>
              <a:off x="3323160" y="333360"/>
              <a:ext cx="2379960" cy="20059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8"/>
            <p:cNvSpPr/>
            <p:nvPr/>
          </p:nvSpPr>
          <p:spPr>
            <a:xfrm>
              <a:off x="3323160" y="3347280"/>
              <a:ext cx="2379960" cy="20059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Заданн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 </a:t>
              </a:r>
              <a:endParaRPr b="0" i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Oval 29"/>
          <p:cNvSpPr/>
          <p:nvPr/>
        </p:nvSpPr>
        <p:spPr>
          <a:xfrm>
            <a:off x="1835280" y="1052640"/>
            <a:ext cx="5184720" cy="1655640"/>
          </a:xfrm>
          <a:prstGeom prst="ellipse">
            <a:avLst/>
          </a:prstGeom>
          <a:solidFill>
            <a:srgbClr val="7e96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ал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ыць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галоўныя рысы 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арактару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юцыяна Тапол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31"/>
          <p:cNvSpPr/>
          <p:nvPr/>
        </p:nvSpPr>
        <p:spPr>
          <a:xfrm>
            <a:off x="5003640" y="3716280"/>
            <a:ext cx="4140360" cy="20178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03e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Знайсц</a:t>
            </a:r>
            <a:r>
              <a:rPr b="1" lang="en-US" sz="1800" spc="-1" strike="noStrike">
                <a:solidFill>
                  <a:srgbClr val="02303e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 ў тэксце </a:t>
            </a:r>
            <a:r>
              <a:rPr b="1" lang="en-US" sz="1800" spc="-1" strike="noStrike">
                <a:solidFill>
                  <a:srgbClr val="02303e"/>
                </a:solidFill>
                <a:latin typeface="Tahoma"/>
              </a:rPr>
              <a:t>i </a:t>
            </a: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зачытаць 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мастацк</a:t>
            </a:r>
            <a:r>
              <a:rPr b="1" lang="en-US" sz="1800" spc="-1" strike="noStrike">
                <a:solidFill>
                  <a:srgbClr val="02303e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я сродк</a:t>
            </a:r>
            <a:r>
              <a:rPr b="1" lang="en-US" sz="1800" spc="-1" strike="noStrike">
                <a:solidFill>
                  <a:srgbClr val="02303e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, як</a:t>
            </a:r>
            <a:r>
              <a:rPr b="1" lang="en-US" sz="1800" spc="-1" strike="noStrike">
                <a:solidFill>
                  <a:srgbClr val="02303e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я 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дапамагаюць раскрыць змест 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303e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02303e"/>
                </a:solidFill>
                <a:latin typeface="Tahoma"/>
              </a:rPr>
              <a:t> галоўную думку твора.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33"/>
          <p:cNvSpPr/>
          <p:nvPr/>
        </p:nvSpPr>
        <p:spPr>
          <a:xfrm>
            <a:off x="0" y="3786120"/>
            <a:ext cx="4211640" cy="20210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III</a:t>
            </a: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Даць характарыстыку б</a:t>
            </a: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i</a:t>
            </a: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скупу .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24000" y="98424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Ц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можна адназначна л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чыць Люцыяна Таполю пераможцам 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над цёмным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с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лам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? 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Аргументуйце свае адказы ўрыўкам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 з тэксту.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2T13:37:38Z</dcterms:created>
  <dc:creator>memfis</dc:creator>
  <dc:description/>
  <dc:language>en-US</dc:language>
  <cp:lastModifiedBy>qwe</cp:lastModifiedBy>
  <dcterms:modified xsi:type="dcterms:W3CDTF">2008-02-03T17:13:15Z</dcterms:modified>
  <cp:revision>43</cp:revision>
  <dc:subject/>
  <dc:title>Слайд 1</dc:title>
</cp:coreProperties>
</file>