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A9A-9F5E-4313-BE4F-B8A4ACCB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57A-2505-482C-9BA1-3E1BFA85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D1F-0EA0-4FB4-8746-5D6840BF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53E-D1C2-4B7F-9F31-B9FF95F7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5F24-CF5F-46EF-B332-85B55A31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2398-1FD8-4645-87CB-F71D588D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4B34-FB4B-48BC-B763-8B8CE90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BFB6-2729-4660-8F9F-DE7C4C8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0A5-2C24-455D-9F18-0A96CCD3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7548-F68F-48E1-8316-5E52B5EC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89E3-DBD2-4F84-A6F4-2A2A450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2FC-F620-4BEA-B9CE-598D5CAA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D263-0636-47C0-9A75-3CAE13F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A3F-4C98-4DA7-A606-0AF0E80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543-FD0E-491E-95A7-7453773B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4AE-4205-494C-BD38-A4DEE18A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AC05-B075-4198-BEC9-3E9B4388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20C-7A7F-49FD-8495-502CE9E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016-F234-4E66-9F89-6B2DB9B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7EF-AF75-4D3F-832E-40050C5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7BB-6E33-4DFC-9AB1-4FFF8225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70B-95F0-44FC-BCA2-55564F5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53A-C93B-4E37-940C-DFC8E4F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C7A-3749-43EF-80B7-9DDD412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384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7440" y="429696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8280" y="399996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6120" y="374112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5320" y="342468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6400" y="317052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4120" y="262728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840" y="2369160"/>
                            <a:ext cx="248148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3640" y="181692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2080" y="428184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9386-B5C5-4DF5-A097-6ABEAB921D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560" y="798480"/>
            <a:ext cx="7083720" cy="6861240"/>
            <a:chOff x="-313560" y="798480"/>
            <a:chExt cx="7083720" cy="68612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560" y="798480"/>
              <a:ext cx="7083720" cy="6861240"/>
              <a:chOff x="-313560" y="798480"/>
              <a:chExt cx="7083720" cy="68612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560" y="798480"/>
                <a:ext cx="7083720" cy="6861240"/>
                <a:chOff x="-313560" y="798480"/>
                <a:chExt cx="7083720" cy="68612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560" y="798480"/>
                  <a:ext cx="7083720" cy="6861240"/>
                  <a:chOff x="-313560" y="798480"/>
                  <a:chExt cx="7083720" cy="68612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560" y="798480"/>
                    <a:ext cx="7083720" cy="6861240"/>
                    <a:chOff x="-313560" y="798480"/>
                    <a:chExt cx="7083720" cy="68612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3560" y="805680"/>
                      <a:ext cx="7074000" cy="6854040"/>
                      <a:chOff x="-313560" y="805680"/>
                      <a:chExt cx="7074000" cy="68540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560" y="805680"/>
                        <a:ext cx="7074000" cy="6854040"/>
                        <a:chOff x="-313560" y="805680"/>
                        <a:chExt cx="7074000" cy="68540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560" y="1282320"/>
                          <a:ext cx="6462720" cy="6377400"/>
                          <a:chOff x="-313560" y="128232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3320" y="452052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5120" y="43318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5960" y="40348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3800" y="37760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4800" y="34599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4080" y="32054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680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1800" y="26622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440" y="240372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1968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1320" y="18518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1320" y="15562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560" cy="4694040"/>
              <a:chOff x="1800" y="2127240"/>
              <a:chExt cx="526356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480" y="2127240"/>
                <a:ext cx="497880" cy="491400"/>
                <a:chOff x="4767480" y="2127240"/>
                <a:chExt cx="497880" cy="49140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4040" y="2349360"/>
                  <a:ext cx="314280" cy="1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9440" y="2249280"/>
                  <a:ext cx="2570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5840" y="2238120"/>
                  <a:ext cx="18324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9920" y="2134800"/>
                  <a:ext cx="23004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6800" y="2127240"/>
                  <a:ext cx="8856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67E5-ECFC-4714-B7F3-AF76814B0E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33829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700" spc="-1" strike="noStrike">
                <a:solidFill>
                  <a:srgbClr val="ffffff"/>
                </a:solidFill>
                <a:latin typeface="Arial"/>
              </a:rPr>
              <a:t>ТЭМА:</a:t>
            </a:r>
            <a:endParaRPr b="0" lang="en-US" sz="5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39280" y="1341000"/>
            <a:ext cx="820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fa1037"/>
                </a:solidFill>
                <a:latin typeface="Verdana"/>
              </a:rPr>
              <a:t>“</a:t>
            </a:r>
            <a:r>
              <a:rPr b="1" lang="be-BY" sz="4800" spc="-1" strike="noStrike">
                <a:solidFill>
                  <a:srgbClr val="fa1037"/>
                </a:solidFill>
                <a:latin typeface="Verdana"/>
              </a:rPr>
              <a:t>ПАД СВЯТЛОМ ЗОРКІ “ПАЛЫН”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fa1037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a1037"/>
                </a:solidFill>
                <a:latin typeface="Arial"/>
              </a:rPr>
              <a:t>Мэта:</a:t>
            </a:r>
            <a:r>
              <a:rPr b="1" lang="be-BY" sz="4400" spc="-1" strike="noStrike">
                <a:solidFill>
                  <a:srgbClr val="c4c3aa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720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Verdana"/>
              </a:rPr>
              <a:t>Вызначыць месца чарнобыльскай тэмы ў сучаснай беларускай літаратур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Verdana"/>
              </a:rPr>
              <a:t>Спрыяць фармаванню ў вучняў аналітычнага погляду на праблему тэхнагеннага ўплыву на чалавечую цывілізацыю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Verdana"/>
              </a:rPr>
              <a:t>Развіваць уменні і навыкі падсумавання на аснове разнародных фактаў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00"/>
                </a:solidFill>
                <a:latin typeface="Verdana"/>
              </a:rPr>
              <a:t>Развіваць навыкі гаварэнн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зв</a:t>
            </a:r>
            <a:r>
              <a:rPr b="1" lang="be-BY" sz="2000" spc="-1" strike="noStrike">
                <a:solidFill>
                  <a:srgbClr val="000000"/>
                </a:solidFill>
                <a:latin typeface="Verdana"/>
              </a:rPr>
              <a:t>іваць аналітычна-сінтэтычныя навыкі і ўменн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дерево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27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7"/>
          <p:cNvSpPr/>
          <p:nvPr/>
        </p:nvSpPr>
        <p:spPr>
          <a:xfrm rot="1429200">
            <a:off x="899640" y="476280"/>
            <a:ext cx="2743200" cy="2352600"/>
          </a:xfrm>
          <a:prstGeom prst="irregularSeal2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AutoShape 8"/>
          <p:cNvSpPr/>
          <p:nvPr/>
        </p:nvSpPr>
        <p:spPr>
          <a:xfrm rot="4709400">
            <a:off x="626760" y="3630240"/>
            <a:ext cx="2743200" cy="2628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AutoShape 9"/>
          <p:cNvSpPr/>
          <p:nvPr/>
        </p:nvSpPr>
        <p:spPr>
          <a:xfrm rot="3292800">
            <a:off x="5511960" y="472320"/>
            <a:ext cx="3314880" cy="3036600"/>
          </a:xfrm>
          <a:prstGeom prst="irregularSeal2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AutoShape 10"/>
          <p:cNvSpPr/>
          <p:nvPr/>
        </p:nvSpPr>
        <p:spPr>
          <a:xfrm rot="276000">
            <a:off x="4642920" y="3789000"/>
            <a:ext cx="3708720" cy="274320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AutoShape 11"/>
          <p:cNvSpPr/>
          <p:nvPr/>
        </p:nvSpPr>
        <p:spPr>
          <a:xfrm rot="1503000">
            <a:off x="3708000" y="0"/>
            <a:ext cx="576360" cy="6597720"/>
          </a:xfrm>
          <a:prstGeom prst="lightningBolt">
            <a:avLst/>
          </a:prstGeom>
          <a:gradFill rotWithShape="0">
            <a:gsLst>
              <a:gs pos="0">
                <a:srgbClr val="757868"/>
              </a:gs>
              <a:gs pos="50000">
                <a:srgbClr val="363830"/>
              </a:gs>
              <a:gs pos="100000">
                <a:srgbClr val="757868"/>
              </a:gs>
            </a:gsLst>
            <a:lin ang="1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332000" y="1268280"/>
            <a:ext cx="172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1037"/>
                </a:solidFill>
                <a:latin typeface="Verdana"/>
              </a:rPr>
              <a:t>РАСПА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a1037"/>
                </a:solidFill>
                <a:latin typeface="Verdana"/>
              </a:rPr>
              <a:t>ДУШ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AutoShape 13"/>
          <p:cNvSpPr/>
          <p:nvPr/>
        </p:nvSpPr>
        <p:spPr>
          <a:xfrm rot="454200">
            <a:off x="239400" y="3077640"/>
            <a:ext cx="8580240" cy="762120"/>
          </a:xfrm>
          <a:prstGeom prst="lightningBolt">
            <a:avLst/>
          </a:prstGeom>
          <a:gradFill rotWithShape="0">
            <a:gsLst>
              <a:gs pos="0">
                <a:srgbClr val="757868"/>
              </a:gs>
              <a:gs pos="50000">
                <a:srgbClr val="363830"/>
              </a:gs>
              <a:gs pos="100000">
                <a:srgbClr val="757868"/>
              </a:gs>
            </a:gsLst>
            <a:lin ang="22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3132000" y="2997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1037"/>
                </a:solidFill>
                <a:latin typeface="Arial"/>
              </a:rPr>
              <a:t>РАСПА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5940360" y="1413000"/>
            <a:ext cx="23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a1037"/>
                </a:solidFill>
                <a:latin typeface="Verdana"/>
              </a:rPr>
              <a:t>РАСПАД ТРАДЫЦЫЙНАГА ЎКЛАДУ ЖЫЦЦ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24"/>
          <p:cNvSpPr/>
          <p:nvPr/>
        </p:nvSpPr>
        <p:spPr>
          <a:xfrm>
            <a:off x="1116000" y="4581360"/>
            <a:ext cx="18716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ПА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МПЕРЫ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5148360" y="4797360"/>
            <a:ext cx="2628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1037"/>
                </a:solidFill>
                <a:latin typeface="Verdana"/>
              </a:rPr>
              <a:t>РАСПА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a1037"/>
                </a:solidFill>
                <a:latin typeface="Verdana"/>
              </a:rPr>
              <a:t>КАШТОЎНАСЦЯ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4"/>
          <p:cNvGrpSpPr/>
          <p:nvPr/>
        </p:nvGrpSpPr>
        <p:grpSpPr>
          <a:xfrm>
            <a:off x="395280" y="765000"/>
            <a:ext cx="8748720" cy="5496120"/>
            <a:chOff x="395280" y="765000"/>
            <a:chExt cx="8748720" cy="5496120"/>
          </a:xfrm>
        </p:grpSpPr>
        <p:sp>
          <p:nvSpPr>
            <p:cNvPr id="347" name="AutoShape 5"/>
            <p:cNvSpPr/>
            <p:nvPr/>
          </p:nvSpPr>
          <p:spPr>
            <a:xfrm>
              <a:off x="395280" y="765000"/>
              <a:ext cx="8748720" cy="54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>
              <a:off x="2974680" y="876600"/>
              <a:ext cx="3589560" cy="1346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учасная беларуская літаратура: чарнобыльская тэма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Line 7"/>
            <p:cNvSpPr/>
            <p:nvPr/>
          </p:nvSpPr>
          <p:spPr>
            <a:xfrm flipH="1">
              <a:off x="4656960" y="2223360"/>
              <a:ext cx="720" cy="20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395280" y="2671560"/>
              <a:ext cx="2804400" cy="2018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3087360" y="4242240"/>
              <a:ext cx="3252960" cy="2018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6003720" y="2671560"/>
              <a:ext cx="3028320" cy="2017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Text Box 11"/>
            <p:cNvSpPr/>
            <p:nvPr/>
          </p:nvSpPr>
          <p:spPr>
            <a:xfrm>
              <a:off x="1068120" y="2877840"/>
              <a:ext cx="1566360" cy="336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Verdana"/>
                </a:rPr>
                <a:t>ПАЭЗІЯ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Text Box 12"/>
            <p:cNvSpPr/>
            <p:nvPr/>
          </p:nvSpPr>
          <p:spPr>
            <a:xfrm>
              <a:off x="4209120" y="4465800"/>
              <a:ext cx="1119960" cy="336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Verdana"/>
                </a:rPr>
                <a:t>ПРОЗА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Text Box 13"/>
            <p:cNvSpPr/>
            <p:nvPr/>
          </p:nvSpPr>
          <p:spPr>
            <a:xfrm>
              <a:off x="6564600" y="3008160"/>
              <a:ext cx="2014560" cy="33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Verdana"/>
                </a:rPr>
                <a:t>ДРАМАТУРГІЯ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564600" y="2223360"/>
              <a:ext cx="10087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Line 15"/>
            <p:cNvSpPr/>
            <p:nvPr/>
          </p:nvSpPr>
          <p:spPr>
            <a:xfrm flipH="1">
              <a:off x="1853640" y="2223360"/>
              <a:ext cx="1121040" cy="5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57200" y="476280"/>
          <a:ext cx="8229600" cy="6864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ЭЗІ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Я.Сіпакоў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 “</a:t>
                      </a: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Одзіум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І.Шамякін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be-BY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лая зорка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. Матукоўскі “Бездань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В.Аколав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Вяртанне ў заўтра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.Алексіевіч “Чарнобыльская малітва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.Дудараў “Адцуранне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М.Трафімчу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“</a:t>
                      </a: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Дзве эпохі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З. Марозаў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“</a:t>
                      </a:r>
                      <a:r>
                        <a:rPr b="1" lang="be-BY" sz="1800" spc="-1" strike="noStrike">
                          <a:solidFill>
                            <a:srgbClr val="66ff33"/>
                          </a:solidFill>
                          <a:latin typeface="Verdana"/>
                        </a:rPr>
                        <a:t>Эпоха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Н. Шклярова “Пакуль Чарнобыль у душу глядзіць”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2"/>
          <p:cNvGrpSpPr/>
          <p:nvPr/>
        </p:nvGrpSpPr>
        <p:grpSpPr>
          <a:xfrm>
            <a:off x="0" y="0"/>
            <a:ext cx="9468000" cy="6524640"/>
            <a:chOff x="0" y="0"/>
            <a:chExt cx="9468000" cy="6524640"/>
          </a:xfrm>
        </p:grpSpPr>
        <p:sp>
          <p:nvSpPr>
            <p:cNvPr id="360" name="AutoShape 13"/>
            <p:cNvSpPr/>
            <p:nvPr/>
          </p:nvSpPr>
          <p:spPr>
            <a:xfrm>
              <a:off x="0" y="0"/>
              <a:ext cx="946800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AutoShape 14"/>
            <p:cNvSpPr/>
            <p:nvPr/>
          </p:nvSpPr>
          <p:spPr>
            <a:xfrm>
              <a:off x="122400" y="460440"/>
              <a:ext cx="3192840" cy="44017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4d0808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AutoShape 15"/>
            <p:cNvSpPr/>
            <p:nvPr/>
          </p:nvSpPr>
          <p:spPr>
            <a:xfrm>
              <a:off x="3070440" y="460440"/>
              <a:ext cx="2947680" cy="440028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AutoShape 16"/>
            <p:cNvSpPr/>
            <p:nvPr/>
          </p:nvSpPr>
          <p:spPr>
            <a:xfrm>
              <a:off x="6121800" y="357120"/>
              <a:ext cx="3093840" cy="450504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64" name="Picture 17" descr="j0149407"/>
            <p:cNvPicPr/>
            <p:nvPr/>
          </p:nvPicPr>
          <p:blipFill>
            <a:blip r:embed="rId3"/>
            <a:stretch/>
          </p:blipFill>
          <p:spPr>
            <a:xfrm>
              <a:off x="3561840" y="1061640"/>
              <a:ext cx="1842840" cy="18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8" descr="j0285360"/>
            <p:cNvPicPr/>
            <p:nvPr/>
          </p:nvPicPr>
          <p:blipFill>
            <a:blip r:embed="rId4"/>
            <a:stretch/>
          </p:blipFill>
          <p:spPr>
            <a:xfrm>
              <a:off x="6755040" y="2579040"/>
              <a:ext cx="1847880" cy="18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9" descr="Роза6"/>
            <p:cNvPicPr/>
            <p:nvPr/>
          </p:nvPicPr>
          <p:blipFill>
            <a:blip r:embed="rId5"/>
            <a:stretch/>
          </p:blipFill>
          <p:spPr>
            <a:xfrm>
              <a:off x="1228320" y="3338640"/>
              <a:ext cx="147456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20" descr="Роза6"/>
            <p:cNvPicPr/>
            <p:nvPr/>
          </p:nvPicPr>
          <p:blipFill>
            <a:blip r:embed="rId6"/>
            <a:stretch/>
          </p:blipFill>
          <p:spPr>
            <a:xfrm>
              <a:off x="491400" y="3034440"/>
              <a:ext cx="1229040" cy="9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1"/>
            <p:cNvSpPr/>
            <p:nvPr/>
          </p:nvSpPr>
          <p:spPr>
            <a:xfrm>
              <a:off x="982080" y="1365840"/>
              <a:ext cx="1473840" cy="1213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эма вайны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Text Box 22"/>
            <p:cNvSpPr/>
            <p:nvPr/>
          </p:nvSpPr>
          <p:spPr>
            <a:xfrm>
              <a:off x="3561840" y="3034440"/>
              <a:ext cx="1964520" cy="1517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эма нацыяналь-нага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драджэння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6500880" y="1213200"/>
              <a:ext cx="2285640" cy="12142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Чарнобыльская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Arial"/>
                </a:rPr>
                <a:t>тэма</a:t>
              </a:r>
              <a:endParaRPr b="0" lang="en-US" sz="19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499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Я буду маліцца і сэрцам і думамі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Распетаю буду маліцца душой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Каб чорныя долі з мяцеліцаў шумам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Ўжо больш не шалелі над роднай зямлё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a1037"/>
                </a:solidFill>
                <a:latin typeface="Arial"/>
              </a:rPr>
              <a:t>Я.Купала</a:t>
            </a:r>
            <a:r>
              <a:rPr b="0" lang="ru-RU" sz="2800" spc="-1" strike="noStrike">
                <a:solidFill>
                  <a:srgbClr val="fa10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2" name="Picture 4" descr="Белорусы"/>
          <p:cNvPicPr/>
          <p:nvPr/>
        </p:nvPicPr>
        <p:blipFill>
          <a:blip r:embed="rId1"/>
          <a:stretch/>
        </p:blipFill>
        <p:spPr>
          <a:xfrm>
            <a:off x="571680" y="2484360"/>
            <a:ext cx="4286160" cy="437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a1037"/>
                </a:solidFill>
                <a:latin typeface="Arial"/>
              </a:rPr>
              <a:t>ДЗЯКУЙ</a:t>
            </a:r>
            <a:r>
              <a:rPr b="1" lang="be-BY" sz="4700" spc="-1" strike="noStrike">
                <a:solidFill>
                  <a:srgbClr val="fa1037"/>
                </a:solidFill>
                <a:latin typeface="Arial"/>
              </a:rPr>
              <a:t> </a:t>
            </a:r>
            <a:br>
              <a:rPr sz="4700"/>
            </a:br>
            <a:r>
              <a:rPr b="1" lang="be-BY" sz="4700" spc="-1" strike="noStrike">
                <a:solidFill>
                  <a:srgbClr val="fa1037"/>
                </a:solidFill>
                <a:latin typeface="Arial"/>
              </a:rPr>
              <a:t>ЗА </a:t>
            </a:r>
            <a:br>
              <a:rPr sz="4700"/>
            </a:br>
            <a:r>
              <a:rPr b="1" lang="be-BY" sz="4700" spc="-1" strike="noStrike">
                <a:solidFill>
                  <a:srgbClr val="fa1037"/>
                </a:solidFill>
                <a:latin typeface="Arial"/>
              </a:rPr>
              <a:t>Ў</a:t>
            </a:r>
            <a:r>
              <a:rPr b="1" lang="ru-RU" sz="4700" spc="-1" strike="noStrike">
                <a:solidFill>
                  <a:srgbClr val="fa1037"/>
                </a:solidFill>
                <a:latin typeface="Arial"/>
              </a:rPr>
              <a:t>ВАГУ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17:58:41Z</dcterms:created>
  <dc:creator>Eveline</dc:creator>
  <dc:description/>
  <dc:language>en-US</dc:language>
  <cp:lastModifiedBy>Федорович З.В.</cp:lastModifiedBy>
  <dcterms:modified xsi:type="dcterms:W3CDTF">2019-04-16T09:31:48Z</dcterms:modified>
  <cp:revision>46</cp:revision>
  <dc:subject/>
  <dc:title>Слайд 1</dc:title>
</cp:coreProperties>
</file>